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0B3-4C2C-4689-BDCC-7F36B635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CCA-47DC-4FE9-B312-D7DAC739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3E1-358E-4994-A4B2-507B5EBE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DD5-7487-4104-A032-3DFB7C4A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2163-513D-42B6-A23A-4F42088A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E9BD-AC0A-4E7F-8C51-077130E3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CE2E-A064-4D76-9722-B8A986A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6477-D6C5-4BB7-B51A-A6300D9B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A39-58A2-41F3-B58C-174A7721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0E8-C4C2-40F0-9E1E-BE8EABA1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E7BC-A85D-460F-BB18-6E151459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C03-7C08-4A1D-9E36-77BC10F7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EB76-B3FA-4BA4-B3F6-EE6BB1F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4E26-1A42-4055-9542-04CE359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DD76-3A43-4B18-AB46-42F1AA8C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EDB0-974F-4FE6-83B5-E517A332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5438-F0AB-4377-B0C9-71A11DD3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EA8-BBD1-4FA9-9380-9589C7B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063-71B4-414B-8D8C-67E3FEEE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F19-E3BA-4A1A-AA24-D503D65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083-F704-402A-9C67-3F1BFB1E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8EE-362B-401A-82A8-A1033BB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02B-8669-4928-865A-0C18B90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52E-37F6-4609-B636-AD8C18D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9AFD-B7BB-4EB5-9776-FE78DC676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087A-673C-486D-876E-E427D85CD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elcome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areer and Technical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dvisory Committe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reer Clusters Framewo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rograms of Stud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29000" y="1295280"/>
            <a:ext cx="51055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ull range of activities, documents and process that make up a seamless education program from school to school within a given Career Cluster or Career Path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es a three-part curriculum framework extending from secondary to two-year postsecondary to four-year postsecondary edu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463760"/>
            <a:ext cx="1764000" cy="398520"/>
          </a:xfrm>
          <a:prstGeom prst="roundRect">
            <a:avLst>
              <a:gd name="adj" fmla="val 3809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Career P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597040"/>
            <a:ext cx="1764000" cy="398520"/>
          </a:xfrm>
          <a:prstGeom prst="roundRect">
            <a:avLst>
              <a:gd name="adj" fmla="val 3809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Career Clu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732120"/>
            <a:ext cx="1764000" cy="398520"/>
          </a:xfrm>
          <a:prstGeom prst="roundRect">
            <a:avLst>
              <a:gd name="adj" fmla="val 3809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Career Path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867200"/>
            <a:ext cx="1764000" cy="398520"/>
          </a:xfrm>
          <a:prstGeom prst="roundRect">
            <a:avLst>
              <a:gd name="adj" fmla="val 38097"/>
            </a:avLst>
          </a:prstGeom>
          <a:solidFill>
            <a:srgbClr val="ffff00">
              <a:alpha val="50000"/>
            </a:srgbClr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Programs of Stu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002280"/>
            <a:ext cx="1764000" cy="398520"/>
          </a:xfrm>
          <a:prstGeom prst="roundRect">
            <a:avLst>
              <a:gd name="adj" fmla="val 38097"/>
            </a:avLst>
          </a:prstGeom>
          <a:solidFill>
            <a:srgbClr val="993300">
              <a:alpha val="50000"/>
            </a:srgbClr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Personal Plan of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2" idx="2"/>
            <a:endCxn id="143" idx="0"/>
          </p:cNvCxnSpPr>
          <p:nvPr/>
        </p:nvCxnSpPr>
        <p:spPr>
          <a:xfrm>
            <a:off x="1263240" y="1887120"/>
            <a:ext cx="1080" cy="685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3" idx="2"/>
            <a:endCxn id="144" idx="0"/>
          </p:cNvCxnSpPr>
          <p:nvPr/>
        </p:nvCxnSpPr>
        <p:spPr>
          <a:xfrm>
            <a:off x="1263240" y="3020760"/>
            <a:ext cx="108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5" idx="0"/>
          </p:cNvCxnSpPr>
          <p:nvPr/>
        </p:nvCxnSpPr>
        <p:spPr>
          <a:xfrm>
            <a:off x="1263240" y="4155840"/>
            <a:ext cx="108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2"/>
            <a:endCxn id="146" idx="0"/>
          </p:cNvCxnSpPr>
          <p:nvPr/>
        </p:nvCxnSpPr>
        <p:spPr>
          <a:xfrm>
            <a:off x="1263240" y="5290920"/>
            <a:ext cx="1080" cy="6865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rograms of Stu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ec94"/>
                </a:solidFill>
                <a:latin typeface="Times New Roman"/>
              </a:rPr>
              <a:t>Refer to hando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efits for Educato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engaged lear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ader community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re for true integrated teaching and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d achievement for all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s teaching fun by applying all knowledge – both academic and techn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efits for Employ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a pipeline of 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force is well qualified and able to adapt to the changing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ingful engagement with the school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mework for cross-training or re-tooling the work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efits for Paren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informed o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er transitions among learner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savings – integrated credit and articulation agre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ocused and engaged stu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enefits for Learn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va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able technical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ies to explore multiple care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ed, seamless trans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engaged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ext Meet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ecember 11, 2008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efft Auditoriu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3:45-5:0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o are w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eer and Technical Education i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keting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ily and Consumer Sciences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nology Edu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re we abou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6000" spc="-1" strike="noStrike">
                <a:solidFill>
                  <a:srgbClr val="ffffff"/>
                </a:solidFill>
                <a:latin typeface="Times New Roman"/>
              </a:rPr>
              <a:t>Developing an educated, prepared, adaptable and competitive workforce.</a:t>
            </a:r>
            <a:r>
              <a:rPr b="0" lang="e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52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ctr" pos="21160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n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ow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523880"/>
          <a:ext cx="7848720" cy="3611520"/>
        </p:xfrm>
        <a:graphic>
          <a:graphicData uri="http://schemas.openxmlformats.org/drawingml/2006/table">
            <a:tbl>
              <a:tblPr/>
              <a:tblGrid>
                <a:gridCol w="3889440"/>
                <a:gridCol w="3959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OCATIONAL EDU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EER EDU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m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a Few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b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 All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e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to 7 “Program Areas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 Clusters – 81 Pathw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Lieu of Academ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igns and Supports Academ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School Focu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gh School and College Partnershi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y Career Education?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ports national and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gislative and educational initiatives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l D. Perkins Career and Technical Education Improvement Act of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hild Left Beh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ouri METS Al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Lead The Way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ouri Workplace Readiness Initi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. . and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y Career Educatio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ur economy is changing t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y-driv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bb5f0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employer de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What Does This Mean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vision for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ignment of Career Education to education reform, workforce development and economic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ssouri’s Vi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95560" y="1980720"/>
            <a:ext cx="32400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52720" y="1447920"/>
            <a:ext cx="3371760" cy="44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ur Recommenda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School Career Guidance and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Rigor, Relevance and Relationships in School Curric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Student Trans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 on High Quality Professional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8:57:45Z</dcterms:created>
  <dc:creator>rswills</dc:creator>
  <dc:description/>
  <dc:language>en-US</dc:language>
  <cp:lastModifiedBy>rswills</cp:lastModifiedBy>
  <dcterms:modified xsi:type="dcterms:W3CDTF">2008-09-10T18:54:28Z</dcterms:modified>
  <cp:revision>5</cp:revision>
  <dc:subject/>
  <dc:title>Welcome  Career and Technical  Advisory Committee</dc:title>
</cp:coreProperties>
</file>